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02C-24B5-4B28-8E88-5310D25D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487-A1EA-41F2-B515-05F31152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358A-D4B5-4025-A672-D2B52BB7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C05-5B17-43E4-9316-878E858A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62B-276E-466B-B3E2-B38B40FD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D74-668E-4D8C-A623-69DE845C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0CB-AC91-43F7-B00D-A40D5C0B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B87-0C40-4513-9F52-0A8694DF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FFD9-341E-473B-B02D-CC34E05D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4BA1-B132-4694-B258-5D9DD828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4A34-EB33-4FA5-837D-1D3D875D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A30-C330-4C7B-BEF0-30454BB7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0781-C95C-47E4-972C-9C879E8CC88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ltural Diversity of Cana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Visible Min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isible Minorities are ethnic groups within society who look different from the maj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2001, 32% of Toronto’s population were a part of a visible mino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08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ousands of Peopl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3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74" name="Down Arrow 4"/>
          <p:cNvSpPr/>
          <p:nvPr/>
        </p:nvSpPr>
        <p:spPr>
          <a:xfrm>
            <a:off x="0" y="907920"/>
            <a:ext cx="484200" cy="58896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768240" y="15955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335 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195640" y="19573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329 8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other To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other To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other Tongu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or first language is the language you were first taught as a child and still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Ontario, Chinese is the most spo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anguage after English and 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Saskatchewan a lot of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peak German or C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ian Culture s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thnic Distribution in Canada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ltural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What are your cultural roo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Where did your parents grow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Your grandpar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our great grandpar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ltural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r most Canadians, the answer to at least one of those questions is likely to be ‘somewhere else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e are all either immigrants or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cendants of immi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ultural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a is a nation that prides itself on its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ultural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population is drawn from many cultural backgrounds, bringing a wide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ange of practices and belief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ulticultu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Canada has an official policy of </a:t>
            </a:r>
            <a:r>
              <a:rPr b="1" lang="es-UY" sz="3200" spc="-1" strike="noStrike">
                <a:solidFill>
                  <a:srgbClr val="000000"/>
                </a:solidFill>
                <a:latin typeface="Arial"/>
              </a:rPr>
              <a:t>multicultur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U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eople are encouraged to retain their cultural heritage while also being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mitted Canad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ulticultu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4013280" cy="3009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0" y="4567320"/>
            <a:ext cx="4013280" cy="229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4013280" y="1544760"/>
            <a:ext cx="5046480" cy="302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4013280" y="4567320"/>
            <a:ext cx="513072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thnic Ori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Ethnic Origin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ltural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adian citizens- both those who were born here and those who came as immigrants and took Canadian citizenship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ve the same nationality but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de array of ethnic ori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pulation in Canada by Ethnic Ori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-6480" y="1596960"/>
            <a:ext cx="915696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Visible Min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1173240"/>
            <a:ext cx="2668680" cy="268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0" y="3860640"/>
            <a:ext cx="2625840" cy="2997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5859360" y="1152360"/>
            <a:ext cx="3284640" cy="3068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4"/>
          <a:stretch/>
        </p:blipFill>
        <p:spPr>
          <a:xfrm>
            <a:off x="5859360" y="4205160"/>
            <a:ext cx="3291120" cy="2652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5"/>
          <a:stretch/>
        </p:blipFill>
        <p:spPr>
          <a:xfrm>
            <a:off x="2600280" y="1173240"/>
            <a:ext cx="3259080" cy="2687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6"/>
          <a:stretch/>
        </p:blipFill>
        <p:spPr>
          <a:xfrm>
            <a:off x="2625840" y="3860640"/>
            <a:ext cx="32335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Jason</cp:lastModifiedBy>
  <dcterms:modified xsi:type="dcterms:W3CDTF">2010-11-19T15:17:44Z</dcterms:modified>
  <cp:revision>27</cp:revision>
  <dc:subject/>
  <dc:title>Diapositiva 1</dc:title>
</cp:coreProperties>
</file>